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5.wmf" ContentType="image/x-wmf"/>
  <Override PartName="/ppt/media/image10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C70D12-85D2-4B27-ACC1-67A3EC9680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A48A6F-6F58-41C5-B1CE-C17E85E942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61A58B-35FC-4124-9D2F-E59E24E605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964E8C-8038-4E95-AD15-CD28F283A4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639DA6-C7BC-4845-9A5E-E4B9AE03C0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10CF37-E552-4831-8C43-1532C40FF9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528C27-4E5C-48E6-A8DC-D35504B4F5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802CE3-25B5-421F-BAA6-48674644F6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1E4D5E-0C20-4AB0-A007-D56F6A28E5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BB5494-3A29-4866-A44A-F1AB9BEE34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0699D1-9C66-4867-B170-00B4C6547B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E1B05-EBB8-4CE3-B159-54342656C4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6D12BF-716D-4BD2-818F-F79E0802F8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AB2CE8-D0A2-4285-ACA8-AA467176F2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Rectangle 3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F4F927-0E99-4903-9E69-0E3E4C4C50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02189C-CFBA-4B0E-8F68-E796E87EFA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F3E8BB-224B-4E6E-BC30-74D59D8CB9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DAC2BC-0B0C-4C86-9103-E0870623D0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80880-ABCB-4D5D-8009-7983E68AAD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3A8A60-2BD3-4586-B21B-5D4EFF1B1D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D2A-18DE-4938-B1D1-E61A503F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BC9-455B-480D-A58B-788BD1C0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DE8-33AE-49F0-81BC-F30AE4B2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F97-2D51-45DA-AF64-C29E8540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4C0-A425-496B-A843-142A63A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DA8-22C5-48A8-A156-472DF02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C67-C352-494E-9AF3-A232976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D4B-F960-4A6E-AF07-E8CFC3F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98C-15C4-4EDD-A698-B71BEA3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C10-900D-44E6-9A38-F9046E6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F33-3E82-4635-A49E-1F2FFB7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00E-FBF3-4D41-BF06-7189E3F7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zione Ordine dei Dottori Agronomi e Dottori Forestali della Provincia di Padova - 11 dicembre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54A9-3C75-407C-BDAB-34F6E8D04C9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estione delle alberature stradal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For. Claudia Alzett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e di Padova - Ufficio Alber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1066680" y="510552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1317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er sacch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e pianta:Ra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e albero: Ko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bero adulto: Leeuw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45720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27168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alcuni alberi vi sono biforcazioni a carattere temporaneo (dette biforcazioni ricorrenti) sotto  controllo genetico. Vengono riassorbite più o meno rapidamente formando il tron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importante tenere conto del loro carattere temporaneo negli interventi di po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124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38080" y="405936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i ricorrenti: ereditarie, inevitabili, si riassorbono nell’ingrossamento del tronco, non essere precipitosi nella potatura di formazio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i dominanti: definiscono l’ingresso nella fase di ingrossamento del tronco. Se appare quando il tronco è troppo basso, conviene potare per prolungare artificialmente la formazione del tronco (innalzamento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e accidentale: cause varie, la potatura è spesso indispensabi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10" descr="C:\Documents and Settings\alzettac\Desktop\copie_09_12_2015\Conferenze,Comunicati,PPT\ppt\potature_vicenza_2016\biforcazioni.jpg"/>
          <p:cNvPicPr/>
          <p:nvPr/>
        </p:nvPicPr>
        <p:blipFill>
          <a:blip r:embed="rId2"/>
          <a:stretch/>
        </p:blipFill>
        <p:spPr>
          <a:xfrm>
            <a:off x="1600200" y="533520"/>
            <a:ext cx="4457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C:\Documents and Settings\alzettac\Desktop\copie_09_12_2015\Conferenze,Comunicati,PPT\ppt\potature_vicenza_2016\fasi_albero.gif"/>
          <p:cNvPicPr/>
          <p:nvPr/>
        </p:nvPicPr>
        <p:blipFill>
          <a:blip r:embed="rId2"/>
          <a:stretch/>
        </p:blipFill>
        <p:spPr>
          <a:xfrm>
            <a:off x="228600" y="1295280"/>
            <a:ext cx="8763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agnostica le anomalie dello sviluppo ed il processo di resilienza tramite l’analisi dell’architettura degli alberi - indispensabile il binocolo e formazione sul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basa su 4 princi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sequenze di rif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a diversità bota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i tre tipi di rami epicorm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chiavi di identif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 (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ristophe Dreno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sequenze di rif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specie ha la propria sequenza di eventi morfologici e questa può essere presa a riferimento per descrivere uno sviluppo ottimale. Consente di distinguere i deperimenti, diversi e spesso temporanei, dall’invecchiamento e dalla sen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a diversità bota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i tre tipi di rami epicorm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nosce ai tre tipi di rami una diversa funzione, si può quindi riconoscere il destino dell’alb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chiavi di identificazio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ganizza gerarchicamente i caratteri morfologici da osservare - attualmente disponibili 6 chiavi, rovere, roverella, farnia, castagno, abete bianco, dougl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ORTOTROPO: direzione di crescita verticale - reitera l’architettura dei giovani alb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PLAGIOTROPO: direz. da orizzontale ad obliqua - reitera l’architettura dei r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AGEOTROPO: nessuna direzione né simmetria - assicura la sopravvivenza dell’asse 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re tipi di rami epicormici secon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C:\Documents and Settings\alzettac\Desktop\copie_09_12_2015\Conferenze,Comunicati,PPT\ppt\potature_vicenza_2016\ARCHI.png"/>
          <p:cNvPicPr/>
          <p:nvPr/>
        </p:nvPicPr>
        <p:blipFill>
          <a:blip r:embed="rId2"/>
          <a:stretch/>
        </p:blipFill>
        <p:spPr>
          <a:xfrm>
            <a:off x="870120" y="765000"/>
            <a:ext cx="74037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SANO: architettura conforme al suo stadio di svilup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STRESSATO: architettura che devia dalla sequenza di riferimento - avvenire incer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 RESILIENTE: presenta una dinamica di ritorno alla normalit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CON CHIOMA DISCENDENTE: ricostruisce la chioma ad una livello inferiore rispetto alla cima origin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DEPERENTE: bloccato in una situazione di non ritorno alla sequenza di riferi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MORTO: cambio morto a 1,3 m al di sopra del collet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iversi stadi di un albero secondo il metodo AR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038480" cy="2877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685800" y="533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estione delle alberature stradali</a:t>
            </a:r>
            <a:br>
              <a:rPr sz="3600"/>
            </a:b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modelli architettur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8102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8" descr="C:\Documents and Settings\alzettac\Desktop\copie_09_12_2015\Conferenze,Comunicati,PPT\ppt\potature_vicenza_2016\ARCHItettura-degli-alberi-1.png"/>
          <p:cNvPicPr/>
          <p:nvPr/>
        </p:nvPicPr>
        <p:blipFill>
          <a:blip r:embed="rId2"/>
          <a:stretch/>
        </p:blipFill>
        <p:spPr>
          <a:xfrm>
            <a:off x="1905120" y="1371600"/>
            <a:ext cx="5145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80880" y="3179880"/>
            <a:ext cx="829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parte dello sviluppo dell’albero è codificata gene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modello porta il nome di un bota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regioni temperate le specie arboree si sviluppano seguendo diversi modelli assemblati (7 modelli base - Jeanne Mi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0880" y="3073320"/>
            <a:ext cx="829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562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3162240" cy="424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3"/>
          <a:stretch/>
        </p:blipFill>
        <p:spPr>
          <a:xfrm>
            <a:off x="5867280" y="914400"/>
            <a:ext cx="258624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dello di Leeuwenberg  - Rhus tiphyna                                 Modello di Massart - Abies balsam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80880" y="2617560"/>
            <a:ext cx="82980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sservando  la struttura dell’albero si capisce quindi cosa sia determinato geneticamente e cosa sia dovuto alle interazioni con 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400800" cy="388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raggruppamento dei primi cinque modelli architetturali si può dedurre la sequenza di svilupp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x= morte dei meristemi apic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03:04Z</dcterms:created>
  <dc:creator>claudia alzetta</dc:creator>
  <dc:description/>
  <dc:language>en-US</dc:language>
  <cp:lastModifiedBy>Meggiolaro Massimo</cp:lastModifiedBy>
  <cp:lastPrinted>2016-09-29T13:27:40Z</cp:lastPrinted>
  <dcterms:modified xsi:type="dcterms:W3CDTF">2016-10-06T14:48:42Z</dcterms:modified>
  <cp:revision>87</cp:revision>
  <dc:subject/>
  <dc:title>Presentazione di PowerPoint</dc:title>
</cp:coreProperties>
</file>